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163-8EE7-4DB0-B11F-43FBA84B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3B8-0871-41FF-B6BE-CFE614C7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66E-2BB4-4419-8C63-54E5EEB7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669-DD5F-4A29-8D28-24558C72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577-CC28-4D64-8EB1-1434A775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6D2-BFA2-4656-83B0-61C60E61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A1D-A5D1-4D1D-A74B-174DBE06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5E1-83C5-4BAB-98A0-3012675B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8C5-BB36-496A-B167-DA1F86BD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60A-1F00-439A-A74C-3225C89D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A7F-6A3F-4218-B799-618F6D43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4CB-AE32-4F1E-88B8-637F4BF1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88D-C5D5-4EB2-9D94-DA8EE84D5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lip0002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2286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4648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Madness and Civ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800600" cy="4776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4572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9: The Birth of the Asy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1752480"/>
            <a:ext cx="29718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ques/practices of early psychiatric reformers: Tuke, Pi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s contrast with perceived message of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cault and “antipsychiat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oyaMadhouse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001000" cy="477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90920" y="6172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ya – “The Madhou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0492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ding Chapter and Beyo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ship between art and ma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066680"/>
            <a:ext cx="815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 of the mentally i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r Art, Intuitive Art, Art Br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demonstrates an unawareness of conventional notions of technique and aesthe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s outside of lineage, contemporary commun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s unique perspective, condition of art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illem%20Van%20Genk%201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154400" cy="586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em Van Gen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Willem%20Van%20Genk%202" descr=""/>
          <p:cNvPicPr/>
          <p:nvPr/>
        </p:nvPicPr>
        <p:blipFill>
          <a:blip r:embed="rId1"/>
          <a:stretch/>
        </p:blipFill>
        <p:spPr>
          <a:xfrm>
            <a:off x="1143000" y="0"/>
            <a:ext cx="6629400" cy="5877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6720" y="6095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em Van Gen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lfli1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5775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38480" y="6172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lfli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lfli%203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534200" cy="6264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lfli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rancis%20Palanc%20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59440" cy="491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81280" y="5715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s Pala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aya%201" descr=""/>
          <p:cNvPicPr/>
          <p:nvPr/>
        </p:nvPicPr>
        <p:blipFill>
          <a:blip r:embed="rId1"/>
          <a:stretch/>
        </p:blipFill>
        <p:spPr>
          <a:xfrm>
            <a:off x="3581280" y="380880"/>
            <a:ext cx="4149720" cy="598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1932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aston%20teuscher%201" descr=""/>
          <p:cNvPicPr/>
          <p:nvPr/>
        </p:nvPicPr>
        <p:blipFill>
          <a:blip r:embed="rId1"/>
          <a:stretch/>
        </p:blipFill>
        <p:spPr>
          <a:xfrm>
            <a:off x="3121200" y="380880"/>
            <a:ext cx="5362560" cy="609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1905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on Teu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2520" y="609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 Stultifera Nav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14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 to histori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d such ships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ce to argument of tex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py%20of%20BoschShipOfFools" descr=""/>
          <p:cNvPicPr/>
          <p:nvPr/>
        </p:nvPicPr>
        <p:blipFill>
          <a:blip r:embed="rId1"/>
          <a:stretch/>
        </p:blipFill>
        <p:spPr>
          <a:xfrm>
            <a:off x="666720" y="304920"/>
            <a:ext cx="2984400" cy="579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17220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ch - The Ship of F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adge%20Gill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482616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16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ge G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cottie%20Wilson%201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615924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1828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ie 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arlo%201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530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arlo%20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54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6019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9144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, transgression, and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ransgress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ing the boundaries of conventional notions of morality and truth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amples in litera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aille, Genet, Artaud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Resonates with Fouca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cault writes: “madness has become mans possibility for abolishing both man and the world….it is the last recourse: the end and beginning of everything…it is the ambiguity of chaos and the apocalypse” (F 281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228600"/>
            <a:ext cx="563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cault and Artau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oucault’s thoughts on madness as ‘the end and beginning of everything’ resonate with Artaud’s writing, particularly his essay, “No More Masterpieces,” in which Artaud decl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384280"/>
            <a:ext cx="541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verence for the past works of art serves to imprison the art of today and the art to co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phenomena of masterpieces alienates art from the public via its ‘superstitious’ reverence for tex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he public finds a given masterpiece irrelevant and incomprehensible, it is not the fault of the public, but the fault of the work itself and system in which such works are def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9907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Foucault and Artaud see conventional notions of psychology as an obstruction to the potential of art and crea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aud holds psychology accountable for “..working relentlessly to reduce the unknown to the known,” (Artaud 7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taud declares theater must go beyond psychological concerns such as woes over social careerism, money and lov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06668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Foucault and Artaud see the dislocating experience of madness as potentially productive, capable of yielding unique insights.  Artaud seeks an art which mirrors the experience of mad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taud proposes a theater which confronts its audience in visceral and disorientating way, a theater which he likens to lava in a volcanic explos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8380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 as inspiration: a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fael Alberti “Concerning the Ange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ckgrou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the “generation of 2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 during a depressive episode brought on by a failed love affair and the suicide of a frie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886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berti’s description of the wri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berti discusses ways in which his mental state dictated his writing style and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0"/>
            <a:ext cx="52578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l or good angel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know whi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rled you into my so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el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furniture or sleeping spa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epidly, the wind w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ll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est panes of g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pness.  Chains.  C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 gues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sk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leave the hou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vil, which cruel ang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want to rent it ag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5029200"/>
            <a:ext cx="3657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“Concerning the Angels,” by Rafael Albert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UINE_BICETR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962160" cy="411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5638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c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28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2: The Great Con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00200"/>
            <a:ext cx="4191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of madness, treatment of mad shif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 is related to idlen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madness becomes an economic and moral iss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it requires punish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ishment is informed by opportunities for economic exploitation/advantage, moral condemnation, and religious ideas (the mad are cast as the Fall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morality via economic issues has lasting affects on treatment of mad and the relationship between mad and soci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1219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cal Period Be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68580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luding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7524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Foucault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 and Civ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to Library Science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971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s to nature of classification in general, specific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73392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tential for cultural perspective and/or cultural bias to inform the ways in which knowledge or information is classified, structured, limited, and interacted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62520" cy="338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876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petr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85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3: The Ins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905120"/>
            <a:ext cx="38102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ing of people mirrors enclosure of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 lack what is most human to classical mind – reas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 can be treated as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oucault3" descr=""/>
          <p:cNvPicPr/>
          <p:nvPr/>
        </p:nvPicPr>
        <p:blipFill>
          <a:blip r:embed="rId1"/>
          <a:stretch/>
        </p:blipFill>
        <p:spPr>
          <a:xfrm>
            <a:off x="838080" y="571680"/>
            <a:ext cx="3505320" cy="491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95680" y="609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4: Passion and Deli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Fouc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362320"/>
            <a:ext cx="4191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d often demonstrate unique use of language and logic which has the potential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oundaries of language and log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ort language and logic in unique 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 its own unique logic and tru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600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, and languag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810240" cy="594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67080" y="533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5: Aspects of Ma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90512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 from moral to med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rs and common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mersion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95680" cy="399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5181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6: Doctors and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4191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theless, new approach is still rooted in religious notions of punishment and redemp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e focuses on the bodies of the m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cure recalls bapt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ures:  deliberately inflected skin disease, bleedings, baths, and purges, theatrical repres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2193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ft towards more humane, scientific approach to trea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029200" cy="5003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quis De S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533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7: The Great F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1600200"/>
            <a:ext cx="2666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cault returns to literar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ury fear of conta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erot, DeSade, Holderlin, Nerval, Nietzs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GoyaSleepReason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100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ya – “The Sleep of 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8: The New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362320"/>
            <a:ext cx="480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ians, theorists pro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nement be reduced to those who are a danger to themselves and soci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ocation of patients from jails to hos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hospitals to treat the mad do not yet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1600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ury, calls for reform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4:19:56Z</dcterms:created>
  <dc:creator> </dc:creator>
  <dc:description/>
  <dc:language>en-US</dc:language>
  <cp:lastModifiedBy> </cp:lastModifiedBy>
  <dcterms:modified xsi:type="dcterms:W3CDTF">2004-10-25T14:07:35Z</dcterms:modified>
  <cp:revision>12</cp:revision>
  <dc:subject/>
  <dc:title>PowerPoint Presentation</dc:title>
</cp:coreProperties>
</file>